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598B-1C36-47E1-ACD9-5AD37E14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6566-13F4-4309-B25A-0A80458F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C6C8-89BB-4115-A2E2-040856365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2820-0633-46C7-84CB-FD856B270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D5C6-D6E4-44C4-B1DC-CB716C76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ADC7-C871-4457-A227-872013FF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5C0E-240C-4646-BA93-81D7E069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CBD6-889B-4F1A-BBB0-FC82FC77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E0AA-917E-4939-874F-3A00BBA7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8349-8A87-4C66-8A47-0AE0B0F8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8BBB-6BE3-4D5D-ACF5-50705FCB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40AC-DA1C-48FE-829F-2E8E4319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298A-C7D0-4D94-A35B-0C7BA7440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___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 Clase 801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5 de mayo del 20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89913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75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 es la cultu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7030a0"/>
                </a:solidFill>
                <a:latin typeface="Arial"/>
              </a:rPr>
              <a:t>L.O: to learn about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er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Domingo, día 18 de febrer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p.2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r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alogo en V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s hoj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apter 8: Dialogo en V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CAPITULO 8: DOMINGO, 18 DE FEBR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457200" y="3962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7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7T21:23:13Z</dcterms:created>
  <dc:creator>Helen Zumaeta</dc:creator>
  <dc:description/>
  <dc:language>en-US</dc:language>
  <cp:lastModifiedBy>Helen Zumaeta</cp:lastModifiedBy>
  <dcterms:modified xsi:type="dcterms:W3CDTF">2016-05-05T15:37:30Z</dcterms:modified>
  <cp:revision>19</cp:revision>
  <dc:subject/>
  <dc:title>Me llamo ________ Clase 8im La fecha es el 8 de enero del 2013</dc:title>
</cp:coreProperties>
</file>